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934-A5AB-4E95-903B-603DC3F9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320-86EF-439A-8FF0-7505725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F57-37B6-499A-966F-E89A517E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6A7-77C9-4BC6-A0AF-47078DEC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089-FD7A-4711-B228-84E3B39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38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38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971-15AA-44A8-9729-D353C971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262-7693-4543-A481-DA94359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135-771B-4CD6-976C-D02E7F9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0E0-AD52-4B08-BD1E-0D6CD293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AD6-6531-4FA2-9201-A72C27B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B97-3334-4065-AE8C-956B5044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F56-EB7B-462A-BFF0-F9F6A56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240"/>
            <a:ext cx="4343400" cy="1447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AB1-64BD-4763-8B82-7FEDE5538A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99000"/>
            <a:ext cx="5029200" cy="3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40044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0522-9C18-47FF-A540-148494CA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V="1">
            <a:off x="228600" y="228240"/>
            <a:ext cx="4343400" cy="1447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4460760"/>
            <a:ext cx="3962520" cy="217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46483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adow Mountain 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0" y="5299200"/>
            <a:ext cx="3664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ing 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0481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 L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@smounta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mounta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4460760"/>
            <a:ext cx="3962520" cy="217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46483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adow Mountain 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0" y="5299200"/>
            <a:ext cx="3664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ing 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Help 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Basic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University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ing Help from Visual Ba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any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t’s In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Work Arou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o Go From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B30-984F-4F29-A747-AE86D98ECB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F949F-8AC1-468A-8DC0-B7F9983C2C66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828800"/>
            <a:ext cx="782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materials for this session were designed to demonstrate connecting Help to VB, and are not intended to endorse any particular Help ty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4D7-BE46-4B42-B2E7-4A4691724EE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4B70D-E9EE-4A5B-AAE0-58848896D7EF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Web site—www.smountain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Visual Basic Resource page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mountain.com/c_VBHelp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 Liske's Tutorial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vbexplorer.com/htmlhelp.a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BDC-0867-44AA-B9E3-8F34D3DD42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E4B09-A2C8-495C-8054-0F44B6AB17F1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3:47:54Z</dcterms:created>
  <dc:creator>Don Lammers</dc:creator>
  <dc:description/>
  <dc:language>en-US</dc:language>
  <cp:lastModifiedBy>Don Lammers</cp:lastModifiedBy>
  <cp:lastPrinted>1997-04-01T11:53:00Z</cp:lastPrinted>
  <dcterms:modified xsi:type="dcterms:W3CDTF">1999-11-03T16:37:37Z</dcterms:modified>
  <cp:revision>8</cp:revision>
  <dc:subject/>
  <dc:title>Connecting Help to    Visual Basic Programs</dc:title>
</cp:coreProperties>
</file>