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12600" y="-9360"/>
            <a:ext cx="304776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49200" y="-9360"/>
            <a:ext cx="30481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1720" y="684000"/>
            <a:ext cx="466092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1440" y="441144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12600" y="8830800"/>
            <a:ext cx="30477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49200" y="8830800"/>
            <a:ext cx="304812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4630-8910-4C2C-A137-A0AADDB61E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63520" y="684360"/>
            <a:ext cx="4657680" cy="3492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1440" y="4411440"/>
            <a:ext cx="518148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IE means Win98 or later, or IE must be installed by the user or the program instal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63520" y="684360"/>
            <a:ext cx="4657680" cy="3492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1440" y="4411440"/>
            <a:ext cx="518148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ge means combine help systems with automatic removal of TOC, Index, and Find links that are not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Pane really means “ option for always open navigation wind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30D-DD94-47D2-92BD-91F303DD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82B-5E6F-431E-8F01-A5122F7F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0A9-B863-4EDA-AF74-62B1FB03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487-D3A2-457E-8508-0F75E24E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F5D-D888-4695-9381-1DFF7F64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138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138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9FC-809F-4418-8851-E998A780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988-1B01-485F-BCE8-B2A67F23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9C0-2924-4F5E-A50D-4F5A40D6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284-3E57-4DF2-B604-718D3F50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54B-8951-483B-BCB0-A2B814FC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B21-83B8-438D-A038-FB1FBCC9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7AC-1D68-422A-852C-CD1F7871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240"/>
            <a:ext cx="4343400" cy="14479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4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2874-64AF-42EC-A604-76ED3861C10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99000"/>
            <a:ext cx="5029200" cy="3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52920" y="6400440"/>
            <a:ext cx="762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B683-83DD-44BF-A0E0-BC5C515D0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flipV="1">
            <a:off x="228600" y="228240"/>
            <a:ext cx="4343400" cy="14479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4460760"/>
            <a:ext cx="3962520" cy="217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0920" y="464832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hadow Mountain T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76800" y="5299200"/>
            <a:ext cx="3664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ing make you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er to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5791320"/>
            <a:ext cx="5181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0481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 L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@smountai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mountai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Help—the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68920" y="2971800"/>
            <a:ext cx="282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a C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yn Faulk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La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4120" y="2286000"/>
            <a:ext cx="85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for the STC Rocky Mountain Chapter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A0A-1A5E-4FE4-9426-3E2AF879BD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2C5D0-BE9D-4512-8D76-0184F37CB9E2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1371600"/>
          <a:ext cx="8153280" cy="4800600"/>
        </p:xfrm>
        <a:graphic>
          <a:graphicData uri="http://schemas.openxmlformats.org/drawingml/2006/table">
            <a:tbl>
              <a:tblPr/>
              <a:tblGrid>
                <a:gridCol w="2286000"/>
                <a:gridCol w="2057400"/>
                <a:gridCol w="2057400"/>
                <a:gridCol w="17524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ic Ty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MP, WM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F, JP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-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F, JP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-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F, JP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F, JP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-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 on T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 on T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94A-031D-4D22-A51A-B89FCB5B579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2F277-57DC-4548-995F-671C46C20582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1371600"/>
          <a:ext cx="6324480" cy="4800600"/>
        </p:xfrm>
        <a:graphic>
          <a:graphicData uri="http://schemas.openxmlformats.org/drawingml/2006/table">
            <a:tbl>
              <a:tblPr/>
              <a:tblGrid>
                <a:gridCol w="2361960"/>
                <a:gridCol w="190512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Bor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C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C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3D5-A619-43C4-99CA-77D99B4590B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AC7E5-6847-4257-B40C-3C264D0F83E3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t-in Extension Cap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676520"/>
          <a:ext cx="8153280" cy="4114800"/>
        </p:xfrm>
        <a:graphic>
          <a:graphicData uri="http://schemas.openxmlformats.org/drawingml/2006/table">
            <a:tbl>
              <a:tblPr/>
              <a:tblGrid>
                <a:gridCol w="2209680"/>
                <a:gridCol w="5943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ros, DLLs, embedded wind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Script, VBScript, Activ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 t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ng JComponents (no JavaScrip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Script (VBScript &amp;ActiveX if I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s OLE, DDE, Apple Ev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84D-9A9B-4CDE-A85E-B35A2F750E4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D62FB-17A0-4EA0-B2A5-1FAFDB00F20F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only unless 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technology (no longer upd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iar to authors and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le (supposedly won’t change per operating sys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BF4-E5D9-4EC8-B2FB-FC29BBAD0AC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07596-C402-4687-8B62-D6639E8FB250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issue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ast HTML popups from app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2800" y="5715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For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347-EE57-4B2A-BC68-1343F47CE5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3EAAC-3DBD-4F6B-A33A-203F1CB49441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ML-Base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d to a proprietary format based on a  single tool (eHelp’s WebHelp and ForeFront’s InterHel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proprietary DLLs or other software to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ing on tool, may be able to distribute on Windows 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818-A54D-4CC6-AA4B-9B19014F89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A326A-5C27-4D27-8C97-6CF47538471B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Java Runtime Environment (JRE) included with Java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with non-Java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based on HTML 3.2 (style &amp; formatting limit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ing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 search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39B-5132-4959-A0A5-FF2C11EEBB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92BB0-210F-4EE6-A0B8-8A0B66D90847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in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browser can rea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built in help specific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936-534A-455C-A190-ABDDE3D469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0C8FB-B4ED-42A4-9F65-75AB27D47946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Acrobat reader (fre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as a book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FFA-F1DD-40E9-9F40-E73D80AB85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245CD-FC92-41F0-AC13-CAEDECB98DFE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ing WinHelp Support Fi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9152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EF4-74A2-4854-AD3B-04D9D25655B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CB4A5-3B0A-45CE-9F28-994A56F72894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ten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-Based Help (WebHelp, InterHelp, WebWorks Publisher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DA5-B14F-4BB2-BE9B-6C0B1953BE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9D2F5-40CB-4CDE-A077-6DB3DC253754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ing Acrobat Support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installer in required languages from Adobe Web site to your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staller executables on distribution CD in appropriate language f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your installer start the Acrobat Reader installer in the appropriate language folder as part of the installation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67C-9CFD-48AC-B977-F5B669E435D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21A16-97BE-467C-AE7F-B6B4C30783CF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ing IE Silentl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90720" y="1447920"/>
          <a:ext cx="340992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340992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800600" y="1447920"/>
          <a:ext cx="3438360" cy="49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447920"/>
                    <a:ext cx="343836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rot="20084400">
            <a:off x="985680" y="2666520"/>
            <a:ext cx="73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try reading these pag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0B6-1D01-4943-B4CC-2809444EE6A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93E25-956F-42CA-8A7D-B9651DE68D0F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ing IE Silentl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90720" y="1371600"/>
          <a:ext cx="3600360" cy="49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360036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876920" y="1352520"/>
          <a:ext cx="3600360" cy="504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352520"/>
                    <a:ext cx="3600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rot="20084400">
            <a:off x="680400" y="2819160"/>
            <a:ext cx="80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y’re just here to demonst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B22-894C-4DF3-8FF0-7AEB6E5FFA4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EC9C1-D6BE-4636-B168-FA4E8FFA6162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ing IE Silentl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1371600"/>
          <a:ext cx="36291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36291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724280" y="1371600"/>
          <a:ext cx="362916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371600"/>
                    <a:ext cx="3629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rot="20084400">
            <a:off x="987480" y="2742480"/>
            <a:ext cx="70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 pain it is to install 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01B-8C94-42FF-B872-50355C1BF12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16CCA-9D1E-4174-805D-A7C6636CC3D7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ing IE Silently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1295280"/>
          <a:ext cx="36385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36385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24280" y="1295280"/>
          <a:ext cx="3619800" cy="503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295280"/>
                    <a:ext cx="3619800" cy="50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 rot="20084400">
            <a:off x="757440" y="2895120"/>
            <a:ext cx="755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readable instructions go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8C6-1AF8-4C2F-9A9B-69AC0D73D7B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9501E-0894-47DA-88CB-0F69B2E52C1D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ing IE Silently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71600"/>
          <a:ext cx="36100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36100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 rot="20084400">
            <a:off x="343800" y="3200040"/>
            <a:ext cx="88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w.helpfulsolutions.com/Silent_IE5_Install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8E8-2816-4C8A-950F-7360F7675AC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BC739-4DCE-4C11-AC5F-3F11AA10BDAF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ing IE Silently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13372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when downloading you cannot download all languages to an English computer. You must set up a computer for each language you wish to downlo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CDD-6C07-4C17-9879-7AA1ECBA40B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4D09C-A271-4652-B4A5-B89EFACE51F8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roups.com/group/HATT (peer hel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master.com (downloa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fulsolutions.com (I.E. insta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sun.com/products/java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B45-75D8-42E8-BDA1-86425F88889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0B349-5B04-4CE2-9BD4-1811A9BFD211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ies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9810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pies of this presentation, as well as other help related information and links, are available at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ww.tanstaafl-software.co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ww.smountain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79B-C902-4F79-8A3B-3824BA38165D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95BDF-AEA8-41D7-B321-7EECABA5593D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981080"/>
            <a:ext cx="8001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less specifically noted, all comments are based on the native versions of the specified help ty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don’t pretend to know about all of the add-ons that may be available to enhance the basic functiona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E32-CE2E-4453-A8C2-EBC83E322F4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1B06E-736F-4491-AA6E-DD84F897EEB2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s, sound, 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ormatting (may not have sty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programs or open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Web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 navigation (req. programm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83F-38FC-4252-8720-AEEDE6E23A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2E050-1064-456D-9C1F-54149DC927D9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219320"/>
          <a:ext cx="8305920" cy="5059080"/>
        </p:xfrm>
        <a:graphic>
          <a:graphicData uri="http://schemas.openxmlformats.org/drawingml/2006/table">
            <a:tbl>
              <a:tblPr/>
              <a:tblGrid>
                <a:gridCol w="2209680"/>
                <a:gridCol w="1600200"/>
                <a:gridCol w="1447920"/>
                <a:gridCol w="1600200"/>
                <a:gridCol w="144792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 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Brist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Alt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 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 on T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 on T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 on T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448-9412-4998-B94C-B4586A47C81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992D0-075E-41DF-8148-8A409E81E3B4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33520" y="1371600"/>
          <a:ext cx="8153280" cy="4800600"/>
        </p:xfrm>
        <a:graphic>
          <a:graphicData uri="http://schemas.openxmlformats.org/drawingml/2006/table">
            <a:tbl>
              <a:tblPr/>
              <a:tblGrid>
                <a:gridCol w="2361960"/>
                <a:gridCol w="1981440"/>
                <a:gridCol w="2006640"/>
                <a:gridCol w="1803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le F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Ser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1E2-636F-4250-A634-57EDA911F50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470BC-B69A-406B-9EAE-B44FC169B909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 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371600"/>
          <a:ext cx="8381880" cy="4800600"/>
        </p:xfrm>
        <a:graphic>
          <a:graphicData uri="http://schemas.openxmlformats.org/drawingml/2006/table">
            <a:tbl>
              <a:tblPr/>
              <a:tblGrid>
                <a:gridCol w="2209680"/>
                <a:gridCol w="1905120"/>
                <a:gridCol w="1981080"/>
                <a:gridCol w="22860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 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 Pop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bed in Ap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. 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 on T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 vie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7E0-2E16-4516-8E16-2A04CAB3268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52401-6518-48D6-BB86-592AA55A6344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371600"/>
          <a:ext cx="8153280" cy="4800600"/>
        </p:xfrm>
        <a:graphic>
          <a:graphicData uri="http://schemas.openxmlformats.org/drawingml/2006/table">
            <a:tbl>
              <a:tblPr/>
              <a:tblGrid>
                <a:gridCol w="2361960"/>
                <a:gridCol w="1676520"/>
                <a:gridCol w="1905120"/>
                <a:gridCol w="2209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In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xt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Scri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C1F-6657-46B2-9880-038E74EF7FB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A3EC1-A022-46CE-9478-01770DF3847B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t-in Nav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1371600"/>
          <a:ext cx="8076960" cy="5059440"/>
        </p:xfrm>
        <a:graphic>
          <a:graphicData uri="http://schemas.openxmlformats.org/drawingml/2006/table">
            <a:tbl>
              <a:tblPr/>
              <a:tblGrid>
                <a:gridCol w="2209680"/>
                <a:gridCol w="990720"/>
                <a:gridCol w="1066680"/>
                <a:gridCol w="1219320"/>
                <a:gridCol w="1447560"/>
                <a:gridCol w="11430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 on T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988-C24C-4CDF-A1AE-A87F89239DD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E3F99-AB9A-47B6-AA6A-2FA2CB8F63C3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1T17:12:02Z</dcterms:created>
  <dc:creator>Don Lammers</dc:creator>
  <dc:description/>
  <dc:language>en-US</dc:language>
  <cp:lastModifiedBy>Don Lammers</cp:lastModifiedBy>
  <cp:lastPrinted>1998-03-12T05:35:36Z</cp:lastPrinted>
  <dcterms:modified xsi:type="dcterms:W3CDTF">2000-10-18T20:08:50Z</dcterms:modified>
  <cp:revision>58</cp:revision>
  <dc:subject/>
  <dc:title>HTML &amp; HTML Help Pros &amp; Cons</dc:title>
</cp:coreProperties>
</file>