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52B-2513-493B-A19A-C1A98114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46D-CDB8-4CBD-9F4A-2A12C3D9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BC2-ADFE-4A79-94B3-049566A4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2240-62D6-46DB-B4B4-0B78F419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BA4-F0B1-454D-BBC3-531A2842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19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19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38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38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A34B-D03B-4EB2-BFC7-2B715B24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F24-069F-43F3-BCE3-D8D47621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D1F1-F446-4684-B3F9-A254AA7E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4753-62E7-4A78-81B5-9CD6CDD5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8BA8-92F6-4186-9258-24D031CD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BED-1DDB-4DE3-8807-D01A3D89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8D7D-A222-4170-9BFA-10DBBFB6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240"/>
            <a:ext cx="4343400" cy="14479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40044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7FE4-419F-4221-9E60-37FB04411D7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99000"/>
            <a:ext cx="5029200" cy="3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152920" y="640044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CBAF-3A13-48F7-B39B-99E924DB1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flipV="1">
            <a:off x="228600" y="228240"/>
            <a:ext cx="4343400" cy="14479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4460760"/>
            <a:ext cx="3962520" cy="217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0920" y="464832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adow Mountain T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76800" y="5299200"/>
            <a:ext cx="36644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ing make your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er to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5791320"/>
            <a:ext cx="5181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048120"/>
            <a:ext cx="45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 Lam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@smountai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mountai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4460760"/>
            <a:ext cx="3962520" cy="2170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90920" y="464832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adow Mountain T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76800" y="5299200"/>
            <a:ext cx="36644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ing make your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er to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5791320"/>
            <a:ext cx="5181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Author Friendly Wiz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Writers’ 2001, Peer Show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ops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IE on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HTML to MediaView R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the URL dec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ages in Visual Bas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ool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3A9-F7D6-48E5-ADEB-49BB14A0FC0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ADF8C-8246-4F93-956A-79E93C924D5F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rrent Su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box executable and ancillary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mode settings executabl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up initializ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ing 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ion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5C2-E193-4F6E-922C-436C8EE6AB0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7FFCC-8C6C-4616-934F-74F9274A4C6E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 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commercial insta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Web access from a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637F-4F93-4367-B6C6-2D6DD357755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35B53-5534-4937-8F69-F602BCEF64F2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LL version confl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bug tracking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only in a localized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viewer for special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E4D-7E86-4818-844B-2EA5AABE65D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24A3F-B70D-453F-BD1F-2D2AD947942E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 Didn’t Man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y centralized diagno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link to product Web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log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ACE9-1554-4C19-BEF2-12F64F9649A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AEA29-BE44-47AE-AF58-4897EAE02429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rom 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 back to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 Web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auto-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 for file ren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ize UI style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indication when two of same d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3C3-B9B2-4ABB-8CCA-03A238DDC7A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0D28E-A8FC-4EA6-BEDB-D94DF0CCEFFD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smountain.com/c_ToolDemo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E3C-2FF3-418C-BB99-D18CA15B99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937E8-FAE6-40CF-AA0D-9282A93BBCDF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customer satisf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modate less knowledgeable us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pressure on call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decreased repair co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0DD-BBE5-4D89-A314-5FD954878AE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B43BE-F0E5-4FD5-867D-767C14D944F1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ubleshoot in t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actions and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easily without impacting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author control look and f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author control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4F0-D9DA-454B-B3AC-A41A224AEB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C4312-6F41-42F8-8934-1DD0457FF1C3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easy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olidate core diagnostic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porate into regular review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flow chart for te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independent insta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from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E57-9E3C-465C-8805-23C9C830E36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76103-5544-40DA-95AE-768181696F42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Design Stu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908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981080" y="1828800"/>
          <a:ext cx="5791320" cy="20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5791320" cy="20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82888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057400" y="4267080"/>
          <a:ext cx="510552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267080"/>
                    <a:ext cx="51055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2C0-A2DC-4D1E-9F88-9FDA4891A3B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51567-6C39-4C07-996E-FC64F04F58C6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Design Stu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057400" y="1905120"/>
          <a:ext cx="54864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5486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20040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057400" y="4343400"/>
          <a:ext cx="5562720" cy="19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343400"/>
                    <a:ext cx="5562720" cy="19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54F-4A93-4693-8E38-CEE31B2D91D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38B06-A657-44D9-BF7C-750F51775305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Winner Is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edded HTML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 supported technolo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vailable third party cont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diting and authoring tool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graphics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o integral controls and but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include dynamic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ere promised IE4 on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BAE6-33DF-4799-B9CA-9F34C2AB6D0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0697F-A0AB-498C-AE94-38F278E76C5F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eamWea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l PhotoP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se InstallM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p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244-4F72-4F94-936E-45E74585DE6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B5680-E06B-437E-95F7-D895D47C6EDB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Not Web Base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Web access in minimum system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ooooow if you are on 56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query 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have to reboot during troublesho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2CF-9EAC-4ED0-9154-2DBAE27A45A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66535-300D-4878-9887-EF11A35FE764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3:47:54Z</dcterms:created>
  <dc:creator>Don Lammers</dc:creator>
  <dc:description/>
  <dc:language>en-US</dc:language>
  <cp:lastModifiedBy>Don Lammers</cp:lastModifiedBy>
  <cp:lastPrinted>1997-04-01T11:53:00Z</cp:lastPrinted>
  <dcterms:modified xsi:type="dcterms:W3CDTF">2001-03-07T01:20:22Z</dcterms:modified>
  <cp:revision>5</cp:revision>
  <dc:subject/>
  <dc:title>Connecting Help to    Visual Basic Programs</dc:title>
</cp:coreProperties>
</file>